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5D9-5774-492C-9EB5-4DCE3077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C76-F8FC-48B6-9C3E-115940A5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F34-465C-4B2E-B2FE-36395BBF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469-AF27-454D-9A88-4E32BF0A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E313-87BE-4A29-B7F6-ACB87738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5E2B-68A4-4148-A220-15FD0EC7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8E18-479E-497F-BA84-CECEE4B4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5B42-6E6C-4935-8B06-2A31523D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B206-E818-4B05-8315-EF6AD5DB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3D58-1261-414A-ACCF-9830D2D4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E7AD-F963-40B1-8F09-0E585ECC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D3E-B05F-4609-839F-CE25AD04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39C1-0FC9-46E3-A2A7-2BB21659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3BA5-9F23-415D-85D6-B88C2386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0712-3E3C-4BA4-B0E6-6D530C8D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E243-1F69-4026-B259-19AEEC37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78FF-7598-4EB6-BC0C-73CDAA9B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724-80B6-48EF-BFB3-654093D6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777-F85B-4583-9FF1-2469D2F0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EB6-8A46-4FCC-B42D-965596BB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B29-EE98-43B7-8A34-B2A65D54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FE5-81C2-4FD6-B889-BD2E8977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5CB-59B1-4FE8-A14D-915FB84A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8C2-58B3-403F-8BB5-FA4336E1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5469-0C99-4B6C-8AC1-FDD8645C69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019C-4EB3-4D6C-950E-26D507D384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yarrarangesnetwork.wikispace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58920" y="5157360"/>
            <a:ext cx="6337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rra Range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Q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3024360" cy="1982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39640" y="2708280"/>
            <a:ext cx="7993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Enhancing literacy and numeracy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outcomes through eLearning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00"/>
                </a:solidFill>
                <a:latin typeface="Arial"/>
              </a:rPr>
              <a:t>Network wiki</a:t>
            </a:r>
            <a:br>
              <a:rPr sz="3800"/>
            </a:br>
            <a:r>
              <a:rPr b="0" lang="en-AU" sz="3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arrarangesnetwork.wikispaces.com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55268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Meeting program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135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lcome back; welcome to new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s and skills 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paperwork: Participan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roductions - Meet same-level colleagues across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nk, Pair,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rtnership and Team formation for school based professional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Learning and planning for t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1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Judy Drew &amp; David Pe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2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3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4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Simon P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twork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0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Ways we work together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197000"/>
            <a:ext cx="7129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with empathy an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a shared sense of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respectful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problems constru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r judgements / keep an ope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diversity and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nd act with positive i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nstruc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et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to enjoy working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Data collec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836640"/>
          <a:ext cx="8496000" cy="521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849600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95280" y="62164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most commonly requested areas at each level were selected for the September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articipant form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720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QTP requirement that participants complete these forms – please complete and return to me before you leave this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37832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Introductions &amp; Think, Pair, Shar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Intro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, Pair, Share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on the taster sessions from our first meeting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chester 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teracy with David Pe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umeracy with 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, if any, ideas have you been able to implement with your class since this s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uccessful have they be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/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an eLearning strategy or tool you have used recently with your class, commenting on your purpose and its su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your partner’s experience on a post-it note along with their name and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roup with like experiences on the butchers’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artnership &amp; Team form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arnin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on of needs-based partnerships and teams to organise coaching, team-teaching and modelling /peer observation in our respectiv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possible groupings at Level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47800" y="4581360"/>
            <a:ext cx="137160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IW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4581360"/>
            <a:ext cx="148608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k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62680" y="4581360"/>
            <a:ext cx="137160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odc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47800" y="5610240"/>
            <a:ext cx="13716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5610240"/>
            <a:ext cx="14860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or / Sk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62680" y="5610240"/>
            <a:ext cx="13716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eLearning &amp; Planning for Trial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1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Judy Drew &amp; David Pel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2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3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4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Simon P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507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Literacy &amp; Numeracy Tool Reflec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AGQTP Logo" descr=""/>
          <p:cNvPicPr/>
          <p:nvPr/>
        </p:nvPicPr>
        <p:blipFill>
          <a:blip r:embed="rId1"/>
          <a:stretch/>
        </p:blipFill>
        <p:spPr>
          <a:xfrm>
            <a:off x="615960" y="-6127920"/>
            <a:ext cx="1104840" cy="714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5960" y="-4681440"/>
            <a:ext cx="7086600" cy="371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2880" y="-6127920"/>
            <a:ext cx="1287720" cy="8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14520" y="-4579920"/>
            <a:ext cx="708660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960" y="-612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960" y="-612792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3800" y="-5368320"/>
            <a:ext cx="4908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ARRA RANGES AGQTP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Literacy and Numeracy Outcomes Through e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960" y="-468144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0240" y="-4309560"/>
            <a:ext cx="4844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   Class Year Level: 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a tool / eLearning strategy to try in your classro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15960" y="-3713040"/>
          <a:ext cx="6616800" cy="1460520"/>
        </p:xfrm>
        <a:graphic>
          <a:graphicData uri="http://schemas.openxmlformats.org/drawingml/2006/table">
            <a:tbl>
              <a:tblPr/>
              <a:tblGrid>
                <a:gridCol w="3308400"/>
                <a:gridCol w="3308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 of the tool /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bsite address (if applicab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ttp:/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you plan to implement it within your literacy curriculum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you expect it to support your students’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586080" y="-2199600"/>
            <a:ext cx="796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ow that you have tried this tool / eLearning strategy, which literacy skills does this tool assist students to develop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40" y="12435840"/>
            <a:ext cx="636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ould you use this tool / strategy again? Give reasons for your 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modifications, if any, would you make to the integration of this tool / strategy into your progra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mmendations to other teac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95280" y="1197000"/>
            <a:ext cx="3840120" cy="5349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788000" y="1197000"/>
            <a:ext cx="3987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3:47:22Z</dcterms:created>
  <dc:creator>02167970</dc:creator>
  <dc:description/>
  <dc:language>en-US</dc:language>
  <cp:lastModifiedBy>02167970</cp:lastModifiedBy>
  <dcterms:modified xsi:type="dcterms:W3CDTF">2009-09-17T01:30:43Z</dcterms:modified>
  <cp:revision>59</cp:revision>
  <dc:subject/>
  <dc:title>Enhancing literacy and numeracy outcomes through eLearning</dc:title>
</cp:coreProperties>
</file>